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6E5-8EB2-4C65-9A7A-4A2E276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1B5-7483-431C-B5F9-F838CA3F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824-6CA3-40A7-900A-216EFE22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E33-286A-40E6-A45A-BF2C7D23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246F-0140-4C7D-9C94-5C49C626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9E5-D4DB-495E-BB4D-9E67B32E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8AA5-F1ED-48AB-A8C5-A49DF08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1C0-3260-45D2-BCD8-3A1EB0E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075-D501-4EC0-89AE-63E4D55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450-25B8-47F9-8C2A-66DA802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755A-DA1B-4043-ADB4-B6DAE0A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6DD-6031-4869-B129-49E2D65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149-31BA-4EE3-AFDE-AA51776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6975-8AE0-42F2-BA3B-E5E3847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BD26-DCED-4B4B-B523-DEB4D5B6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1BC7-976A-4447-AD92-591ED9A2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FB81-930C-4D6C-B08F-1CA089E0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5FCE-7746-40FC-AF0A-6D324BBE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309F-886B-4E5B-934F-814BC48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6DC4-F35D-4596-B8A5-99770F2C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2922-4F64-4BD5-A37E-E698D6A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25EB-9207-47EE-986A-0F9DBD44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FBA-255E-45FC-BC84-A84661B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C64F-6E73-4E66-97CF-01C5CFB0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5AB8-DF97-4437-845A-2707DF76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ADA4-624E-4C55-B08D-B30505E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F28A-5193-41CF-A39A-19EE4A4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040A-AD2D-4F32-AEE3-45F35F0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1B28-5B8A-4459-B6DB-044F3F53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7271-49F1-467B-AFEE-305C9F9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183B-9594-4CF9-9997-ADF7926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06A8-149F-484B-91BE-BC1C1C82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91B6-6967-4356-8768-09BDC6D6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D5A-DC4B-469C-9196-ACC8723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CB36-43B6-481A-A30F-8F48B96B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B55A-CAD4-48E9-8561-515661A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0E26-7F03-40A4-85E0-55D8C8D5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0422-BF7C-4253-A660-04FDFF76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0FFD-8DF5-47DC-AF22-535FCC0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7545-E707-4712-B53A-B6154AC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ABC1-DD80-4E06-BF06-3CDE1D7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5D93-2D34-46ED-BFAF-EEC4DBC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55FB-9DCE-4BCC-A9B3-5231E308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0DE5-8643-47EA-8ED7-F6207DA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AFA-2C80-48FB-A9F7-1C455412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2F85-F95A-4637-AF5F-69C6AD2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B762-C8E1-45AA-B7F1-1D31CDA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6B20-E349-4841-BA54-CB4956D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D955-1739-416B-840D-C70378C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7329-FCCE-4BD0-AD08-2C263A0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D4FD-62F4-4D50-A71B-8A83A065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9FFB-44CE-4B30-8318-29EEF53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2F36-A4DC-4E88-BC09-0EB4AE48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D111-F00D-4E60-9FA3-2CD10E0E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9111-1512-4F33-BCA2-21C7BAEB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7FF-132B-41AD-9DE4-5460F00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A5A0-67B6-46C4-81E1-0226FD9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B439-0256-4711-9B6D-08B04D6D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89F8-6AD6-47C2-8C86-9A7034E8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A4C7-A487-480D-8F42-0487CC3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A11D-2349-4FF8-A5E2-60B7809A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BCEE-4CE3-42B4-8E4B-50502D9A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00FF-EC57-4FB5-AA82-2A16C46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9222C-2E3B-4307-A8C7-C639C226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7B2F-2636-4393-BB41-EA2BA47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8BCE-BD10-44B5-B94F-2C1448E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8AF-309C-4711-847B-958F5CA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A684-A31F-4BDE-A33B-4B28426E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4259-D461-455C-8559-5D86BB47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CDDF-51BD-4A63-AC5D-B9B539D6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6110-D637-4199-8E26-D96D08A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D810-B52A-477A-905F-385EF15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50E8-7A00-4201-9851-4E119AD9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FB66-AD44-4A6C-BCA2-086FCFE1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43EA-9FD2-451E-A355-4BBAE963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092E-D8B3-4435-8D21-13695C2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3EA0-A15E-4610-BF6F-EFDBF35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11C-933E-4A2D-B333-8158D57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BAD0-A023-487D-89ED-F8FAFA1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9C354-BCAC-4482-AE94-8444C0D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D3E6-3FDA-4B95-9B3C-95457D7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2A7E-D0BF-4DFB-8415-3983F8A5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DA6A-C807-455C-9C8B-51113C2A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1E51-FF2A-46C4-8C45-6D25BF58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8A59-25BB-4D18-ABB6-E4A484EF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AF72-41E6-4C5F-AEFB-8FBF90C4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2656-2CC5-4CB7-8694-8A636F6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E2358-7A89-4480-955A-48C753BD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11D-B100-4581-89AF-E3191F9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7BB5-0C01-4864-9FB0-E75353C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DA17-A515-499B-9EB2-FEA31C7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DECA2-215B-4FDE-BE72-590A194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61B72-F936-43B8-B179-598AE96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4DEDA-51A1-4497-A1DB-BCB5670E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9113-C785-4BE7-93EA-526085B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4DBB-04B4-4959-93D0-03FAE0E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435-DEDC-4C41-A3ED-A38F293937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74D2-E96B-437F-86D4-50859E4138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7BB-DF92-4410-8DEB-0B349D77CC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A38-1A72-4269-ABE7-98910200C7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803-FF3F-441D-8A23-E61EB32CED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9719-9A3D-47CF-BEF5-0F1607BF11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7A0D-0B11-4E31-ABB6-A232DAB680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7BD-3FDF-4095-8AC0-3005E04FAE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2011 Uruguay – United States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ducator Exchange Program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ruguay, July 18 – August 6, 20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4 Marcador de contenido" descr="bandera_uruguay.jpg"/>
          <p:cNvPicPr/>
          <p:nvPr/>
        </p:nvPicPr>
        <p:blipFill>
          <a:blip r:embed="rId1"/>
          <a:stretch/>
        </p:blipFill>
        <p:spPr>
          <a:xfrm>
            <a:off x="3924360" y="4508640"/>
            <a:ext cx="1825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4" descr=""/>
          <p:cNvPicPr/>
          <p:nvPr/>
        </p:nvPicPr>
        <p:blipFill>
          <a:blip r:embed="rId1"/>
          <a:stretch/>
        </p:blipFill>
        <p:spPr>
          <a:xfrm>
            <a:off x="195120" y="274680"/>
            <a:ext cx="849816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Lucida Sans Unicode"/>
              </a:rPr>
              <a:t>The Fulbright Program aims to bring a little more knowledge, a little more reason, and a little more compassion into world affairs and thereby to increase the chance that nations will learn at last to live in peace and friendship.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Photo of J. William Fulbright"/>
          <p:cNvPicPr/>
          <p:nvPr/>
        </p:nvPicPr>
        <p:blipFill>
          <a:blip r:embed="rId2"/>
          <a:stretch/>
        </p:blipFill>
        <p:spPr>
          <a:xfrm>
            <a:off x="5486400" y="2313000"/>
            <a:ext cx="2362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704440" cy="1152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tarted in 200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To date, 75 U.S. Principals/Teachers have participated in the program visiting schools in every Departament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High Schools were incorporated in the 2010 program for the first tim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The 2011 group is the largest since the beginning of the program. All of the U.S. educators have hosted Uruguayan educators befo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The program starts with an orientation week and is followed by visits to Uruguayan schools in Montevideo and in the Departamentos (Province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5" descr="Teacher Exchange"/>
          <p:cNvPicPr/>
          <p:nvPr/>
        </p:nvPicPr>
        <p:blipFill>
          <a:blip r:embed="rId2"/>
          <a:stretch/>
        </p:blipFill>
        <p:spPr>
          <a:xfrm>
            <a:off x="4716360" y="1844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13920"/>
            <a:ext cx="83296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Sunday, July 17th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Departure from the United Stat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Week 1 – starting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Monday, July 18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Arrival in Montevide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ORIENTATION WEEK IN MONTEVIDE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Week 2 – starting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Monday, July 25th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HOST SCHOOL visi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Week 3 – starting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Monday, August 1s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HOST SCHOOL visit continu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Wednesday, August 3rd – Return to Montevide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Thursday, August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– Debriefing Session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Friday, August 5</a:t>
            </a:r>
            <a:r>
              <a:rPr b="0" lang="en-GB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– Freed da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Saturday, August 6th – Departure to the U.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Sunday, August 7</a:t>
            </a:r>
            <a:r>
              <a:rPr b="0" lang="en-GB" sz="16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– Arrival in the U.S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9" descr=""/>
          <p:cNvPicPr/>
          <p:nvPr/>
        </p:nvPicPr>
        <p:blipFill>
          <a:blip r:embed="rId1"/>
          <a:stretch/>
        </p:blipFill>
        <p:spPr>
          <a:xfrm>
            <a:off x="237960" y="281160"/>
            <a:ext cx="8607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da2bf"/>
                </a:solidFill>
                <a:latin typeface="Lucida Sans Unicode"/>
              </a:rPr>
              <a:t>Orientation Week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Picture 11" descr="TE 2007_ Danna Lomax at School 153 in Montevideo"/>
          <p:cNvPicPr/>
          <p:nvPr/>
        </p:nvPicPr>
        <p:blipFill>
          <a:blip r:embed="rId1"/>
          <a:stretch/>
        </p:blipFill>
        <p:spPr>
          <a:xfrm>
            <a:off x="684360" y="1341360"/>
            <a:ext cx="2912760" cy="2190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Teacher E 2008"/>
          <p:cNvPicPr/>
          <p:nvPr/>
        </p:nvPicPr>
        <p:blipFill>
          <a:blip r:embed="rId2"/>
          <a:stretch/>
        </p:blipFill>
        <p:spPr>
          <a:xfrm>
            <a:off x="4788000" y="1413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foto banderas"/>
          <p:cNvPicPr/>
          <p:nvPr/>
        </p:nvPicPr>
        <p:blipFill>
          <a:blip r:embed="rId3"/>
          <a:stretch/>
        </p:blipFill>
        <p:spPr>
          <a:xfrm>
            <a:off x="611280" y="3716280"/>
            <a:ext cx="3695760" cy="2189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7-30-2004 School 160 and Santa Lucia 019"/>
          <p:cNvPicPr/>
          <p:nvPr/>
        </p:nvPicPr>
        <p:blipFill>
          <a:blip r:embed="rId4"/>
          <a:stretch/>
        </p:blipFill>
        <p:spPr>
          <a:xfrm>
            <a:off x="4716360" y="371628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ate strong linkages between participants and communitie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mote innovative ideas in teaching and progra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sure a long-lasting impact on participating schools both in Uruguay and the United Stat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65240" y="208080"/>
            <a:ext cx="8497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Receive and share ideas for effective teaching strateg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Reflect upon each one’s strengths and weaknesses by observing those of the teachers in Urugua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66fff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Gain understanding about the U.S. school system by learning about how Uruguay’s system oper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66fff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66fff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Gain knowledge and resources to help students in the U.S. learn about Urugua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66fff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Meet other U.S. Teachers from who to learn and with whom to develop plans for future collabor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119"/>
                </a:solidFill>
                <a:latin typeface="Lucida Sans Unicode"/>
              </a:rPr>
              <a:t>Every system of education has strengths and weaknesses. You will observe these throughout your sta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he idea of this program is not to assess educational or administrative approaches, nor to judge or critiqu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You will certainly observe different ways of doing things: some better, some wo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ally everyone learns from and shares with one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7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 the end of the program we will have a debriefing session where we would like you to share on the following aspects of your experienc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* A teaching leadership, methodology or strategy that you have observed and that may be applicable to your home school environ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	</a:t>
            </a: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* A teaching leadership, methodology or strategy that you apply at your home school and that you have shared with your Uruguayan colleag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	</a:t>
            </a: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* The collaborative project that you plan to conduct with your host school to continue with this pro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   </a:t>
            </a:r>
            <a:r>
              <a:rPr b="0" lang="es-ES" sz="2300" spc="-1" strike="noStrike">
                <a:solidFill>
                  <a:srgbClr val="b54a10"/>
                </a:solidFill>
                <a:latin typeface="Lucida Sans Unicode"/>
              </a:rPr>
              <a:t>* Most significant cultural activities or meetings during your vis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LODG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Hotel in Montevideo (double occupancy) and in the Provinces (single occupancy)- Level of Comfor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Includes breakfas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Paid by the Commission (except for incidental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FINANC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Weekly Stipe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Travel to and from host schools destin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Per diem to host schoo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Health Insurance -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FINAL REPORT and PHO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7:19:16Z</dcterms:created>
  <dc:creator>Usuario</dc:creator>
  <dc:description/>
  <cp:keywords/>
  <dc:language>en-US</dc:language>
  <cp:lastModifiedBy>.</cp:lastModifiedBy>
  <dcterms:modified xsi:type="dcterms:W3CDTF">2011-07-17T21:24:03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53082</vt:lpwstr>
  </property>
</Properties>
</file>